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4FC-4AAC-4603-A936-867E4B61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8DD-1CE5-46C7-8E7F-4AF00FFF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E1A-910D-443B-92B7-F96FD298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BB0-EAA2-49EF-9BA4-74083887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915-98CC-4A77-8F4A-BB8FD9EE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74C-F1BC-434E-BA2A-9B2CF8D7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301-BED1-4BBE-B68C-31C03F62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19A-FE7B-42F2-9790-A0F9B3BE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9B5-853A-4486-B857-DB211F86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137-0A8D-4635-BEC5-D1522E0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B95-148E-4DB5-AEE5-77EB313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93-93B1-48B6-AC96-EEF74BF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C501-D08E-41A9-B1D8-955F0539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lker.com/cliparts/7/d/1/6/11954402441345879580liftarn_Dog_bed.svg.hi.png&amp;imgrefurl=http://www.clker.com/clipart-11723.html&amp;usg=__m5C26cwyF6LW0Oaz4bFpmboLaTU=&amp;h=224&amp;w=600&amp;sz=33&amp;hl=en&amp;start=5&amp;zoom=1&amp;itbs=1&amp;tbnid=ym0b1uJ3IUsThM:&amp;tbnh=50&amp;tbnw=135&amp;prev=/images%3Fq%3Ddog%2Bbed%2Bcartoon%26hl%3Den%26gbv%3D2%26tbs%3Disch:1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dhs.freehosting.net/photo.html" TargetMode="External"/><Relationship Id="rId2" Type="http://schemas.openxmlformats.org/officeDocument/2006/relationships/hyperlink" Target="http://www.clker.com/clipart-11723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838080"/>
            <a:ext cx="484812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ladimir Script"/>
              </a:rPr>
              <a:t>The Lost Puppy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ladimir Script"/>
              <a:ea typeface="Vladimir Script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95288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a Westerh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29559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533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re was a little boy and girl named, Geri and Terri. They were 2 year old brother and sister, twins. For Christmas their parents got them a puppy, two, one for Geri and one for Terri.</a:t>
            </a: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2462400" cy="349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0560" t="6764" r="38437" b="47299"/>
          <a:stretch/>
        </p:blipFill>
        <p:spPr>
          <a:xfrm>
            <a:off x="4267080" y="2514600"/>
            <a:ext cx="136548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10499" t="0" r="51739" b="46161"/>
          <a:stretch/>
        </p:blipFill>
        <p:spPr>
          <a:xfrm>
            <a:off x="6248520" y="2666880"/>
            <a:ext cx="93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38680" y="228600"/>
            <a:ext cx="3353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loved to play with them, all day lo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erri look Bear can play fetch” said G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Geri teach mine teach mine!” yelled Ter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played outside till it was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5960" y="3124080"/>
            <a:ext cx="2197080" cy="2890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955960" cy="326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79132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s they were getting ready for bed, Geri</a:t>
            </a: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oticed that Bear wasn’t in the bed. He looked all over the place, he went to the kitchen, backyard, and the bathroom. Still nowhere to be f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914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?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257800"/>
            <a:ext cx="2657520" cy="98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45838" t="22650" r="15240" b="32084"/>
          <a:stretch/>
        </p:blipFill>
        <p:spPr>
          <a:xfrm>
            <a:off x="4800600" y="16002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786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800600" y="1600200"/>
            <a:ext cx="4114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e told his parents, and sister, but no one could find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Geri don’t cry, we’ll find him” Terri tried to cheer him up, but all he wanted was B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nd then we heard a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346400">
            <a:off x="761760" y="4419720"/>
            <a:ext cx="4295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BOM-BOM-BOM*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 rot="5400000">
            <a:off x="480960" y="1423800"/>
            <a:ext cx="2514600" cy="581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BOM-BOM-BOM*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5791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Haettenschweiler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hey all went to see what it was, and in the cabinet in the kitchen something was there. We heard pots and pans, and then… B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2955960" cy="326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91520" y="3049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So for Christmas that year we got a dog, then lost one of them. But it had to of been the best Christmas ev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2944800" cy="417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0560" t="6764" r="38437" b="47299"/>
          <a:stretch/>
        </p:blipFill>
        <p:spPr>
          <a:xfrm>
            <a:off x="380880" y="1981080"/>
            <a:ext cx="201456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0499" t="0" r="51739" b="46161"/>
          <a:stretch/>
        </p:blipFill>
        <p:spPr>
          <a:xfrm>
            <a:off x="7543800" y="2895480"/>
            <a:ext cx="137160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1577880" cy="174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553080" y="4343400"/>
            <a:ext cx="1273320" cy="1676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617220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63244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238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7040" y="3763080"/>
            <a:ext cx="51566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s Page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Available Dog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/20/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sedhs.freehosting.net/pho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rl : slide 2 and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y: slide 2,4, an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438280"/>
            <a:ext cx="6477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g Bed clip ar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lker.com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0.21.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clker.com/clipart-117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3720" y="1905120"/>
            <a:ext cx="48765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(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9:05:07Z</dcterms:created>
  <dc:creator>install</dc:creator>
  <dc:description/>
  <dc:language>en-US</dc:language>
  <cp:lastModifiedBy>install</cp:lastModifiedBy>
  <dcterms:modified xsi:type="dcterms:W3CDTF">2010-11-05T19:25:16Z</dcterms:modified>
  <cp:revision>11</cp:revision>
  <dc:subject/>
  <dc:title>Slide 1</dc:title>
</cp:coreProperties>
</file>